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D1490-1F47-4569-A7D8-23BFAE1DC4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 out copies of the article. Instruct students to read the article along with the teacher when directed.  Students can find the complete article on pages 5-9 in September 2005 National Geographic Explorer.  Complete text is also printed in word form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nstrate how to use a double bubble map by comparing two parts of the dragonfly life cy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diagram is a flow ma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a student version of a flow ma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ysical parts of a dragonfly.  A simplified version of this is on page 7 in the actual articl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diagram from the arti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ree map is one way to organize the information from the dia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-flow map.  The event is that dragonflies are in danger of becoming extinct.  The causes are on the left and the effects are on the righ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reading the article have students tell the teacher all that they know about dragonflies, and where they learned that information.  Create a circle map for that in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ce Map.  The actual head, thorax and abdom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he same circle map from before the article and add additional information from the article as a post-assess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the circle map show this picture of a dragonfly and the next picture.  There may be students who do not know what a dragonfly i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viewing this picture, read the article up to Built to Hu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this slide when reading the section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Built to Hu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this slide when reading the sectio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rom Water to Air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A8C1-A4F6-4961-92A4-16DA8A393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59DD-2C25-4E53-A17E-E9257AE11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2F67-1897-415B-B61C-E55338121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BF60-7CA1-4D4B-8912-B797FE0A7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96D6-164C-42E2-A2AE-16162F992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433D-35F5-498C-BEA9-C108053DB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FAF1-B3C9-48CB-8DF6-54DA217AB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2367-5BB3-4962-9146-AC6E13FE8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F65C-DD59-4939-82E4-4E23BD40F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703E-B1CF-4A6B-9BFE-486D83FC9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A96A-2967-4178-BCE0-D21C74B54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B402-6A66-4E83-B06C-9BFF7A6B6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595BB-1CEA-47C7-BC94-922210E263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yedesignbook.com/ch2/fig2-10BG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rcRect l="0" t="0" r="4000" b="0"/>
          <a:stretch/>
        </p:blipFill>
        <p:spPr>
          <a:xfrm>
            <a:off x="1219320" y="0"/>
            <a:ext cx="6627600" cy="70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90720" y="631800"/>
            <a:ext cx="7543800" cy="62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228600" y="304920"/>
            <a:ext cx="8686800" cy="5029200"/>
            <a:chOff x="228600" y="304920"/>
            <a:chExt cx="8686800" cy="5029200"/>
          </a:xfrm>
        </p:grpSpPr>
        <p:sp>
          <p:nvSpPr>
            <p:cNvPr id="75" name=""/>
            <p:cNvSpPr/>
            <p:nvPr/>
          </p:nvSpPr>
          <p:spPr>
            <a:xfrm>
              <a:off x="1295280" y="1600200"/>
              <a:ext cx="1905120" cy="17524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715000" y="1523880"/>
              <a:ext cx="1905120" cy="17528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04920" y="533520"/>
              <a:ext cx="990360" cy="9903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58000" y="3657600"/>
              <a:ext cx="990720" cy="9907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924680" y="2057400"/>
              <a:ext cx="990720" cy="9907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238880" y="304920"/>
              <a:ext cx="990720" cy="9903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28600" y="2819520"/>
              <a:ext cx="990720" cy="9903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600200" y="3733920"/>
              <a:ext cx="990720" cy="9903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809880" y="762120"/>
              <a:ext cx="990720" cy="9903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733920" y="2666880"/>
              <a:ext cx="990360" cy="9907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886200" y="4343400"/>
              <a:ext cx="990720" cy="9907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4800240" y="3200400"/>
              <a:ext cx="152388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4724280" y="2666880"/>
              <a:ext cx="9907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flipV="1">
              <a:off x="4800240" y="1371600"/>
              <a:ext cx="10666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666880" y="3276720"/>
              <a:ext cx="129564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048120" y="2895480"/>
              <a:ext cx="6858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2895480" y="1295280"/>
              <a:ext cx="9144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7086600" y="12193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620120" y="25146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086600" y="3200400"/>
              <a:ext cx="2286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1218960" y="137124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1142640" y="289548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057400" y="33526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1752480" y="22096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Lar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19920" y="1981080"/>
            <a:ext cx="15238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Ad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Dragonf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0880" y="838080"/>
            <a:ext cx="838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No w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3124080"/>
            <a:ext cx="838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Lives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76520" y="4038480"/>
            <a:ext cx="838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Hatches from e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315200" y="533520"/>
            <a:ext cx="838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Emerges from lar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001000" y="2286000"/>
            <a:ext cx="838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Has w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3809880"/>
            <a:ext cx="838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Lives near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86200" y="99072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cc00"/>
                </a:solidFill>
                <a:latin typeface="Arial"/>
              </a:rPr>
              <a:t>li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09880" y="2819520"/>
            <a:ext cx="838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cc00"/>
                </a:solidFill>
                <a:latin typeface="Arial"/>
              </a:rPr>
              <a:t>Part of same life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46483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cc00"/>
                </a:solidFill>
                <a:latin typeface="Arial"/>
              </a:rPr>
              <a:t>carniv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4952880"/>
            <a:ext cx="1800360" cy="1905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7342200" y="4952880"/>
            <a:ext cx="18018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66680" y="304920"/>
            <a:ext cx="7010640" cy="61689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657600" y="5334120"/>
            <a:ext cx="205740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276720" y="5029200"/>
            <a:ext cx="380880" cy="304560"/>
            <a:chOff x="3276720" y="5029200"/>
            <a:chExt cx="380880" cy="304560"/>
          </a:xfrm>
        </p:grpSpPr>
        <p:sp>
          <p:nvSpPr>
            <p:cNvPr id="114" name=""/>
            <p:cNvSpPr/>
            <p:nvPr/>
          </p:nvSpPr>
          <p:spPr>
            <a:xfrm flipV="1">
              <a:off x="3276720" y="5232240"/>
              <a:ext cx="75960" cy="101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3429000" y="5029200"/>
              <a:ext cx="76320" cy="101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3581280" y="5130720"/>
              <a:ext cx="76320" cy="101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3429000" y="5232240"/>
              <a:ext cx="76320" cy="101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 flipH="1" flipV="1">
            <a:off x="6172200" y="2819160"/>
            <a:ext cx="1447920" cy="1981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047760" y="2133720"/>
            <a:ext cx="20574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590920" y="4876920"/>
            <a:ext cx="609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762120" y="1066680"/>
            <a:ext cx="7772040" cy="4647960"/>
            <a:chOff x="762120" y="1066680"/>
            <a:chExt cx="7772040" cy="4647960"/>
          </a:xfrm>
        </p:grpSpPr>
        <p:sp>
          <p:nvSpPr>
            <p:cNvPr id="122" name=""/>
            <p:cNvSpPr/>
            <p:nvPr/>
          </p:nvSpPr>
          <p:spPr>
            <a:xfrm>
              <a:off x="762120" y="1066680"/>
              <a:ext cx="2711160" cy="1584360"/>
            </a:xfrm>
            <a:prstGeom prst="rect">
              <a:avLst/>
            </a:prstGeom>
            <a:noFill/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473280" y="1489320"/>
              <a:ext cx="2169000" cy="844560"/>
            </a:xfrm>
            <a:prstGeom prst="rightArrow">
              <a:avLst>
                <a:gd name="adj1" fmla="val 50000"/>
                <a:gd name="adj2" fmla="val 6420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642280" y="1066680"/>
              <a:ext cx="2711160" cy="1584360"/>
            </a:xfrm>
            <a:prstGeom prst="rect">
              <a:avLst/>
            </a:prstGeom>
            <a:noFill/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823000" y="4130280"/>
              <a:ext cx="2711160" cy="1584360"/>
            </a:xfrm>
            <a:prstGeom prst="rect">
              <a:avLst/>
            </a:prstGeom>
            <a:noFill/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5400000">
              <a:off x="6257880" y="3028680"/>
              <a:ext cx="1478880" cy="723240"/>
            </a:xfrm>
            <a:prstGeom prst="rightArrow">
              <a:avLst>
                <a:gd name="adj1" fmla="val 50000"/>
                <a:gd name="adj2" fmla="val 5112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10800000">
              <a:off x="3563280" y="4552560"/>
              <a:ext cx="2169000" cy="845280"/>
            </a:xfrm>
            <a:prstGeom prst="rightArrow">
              <a:avLst>
                <a:gd name="adj1" fmla="val 50000"/>
                <a:gd name="adj2" fmla="val 6415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52480" y="4130280"/>
              <a:ext cx="2711160" cy="1584360"/>
            </a:xfrm>
            <a:prstGeom prst="rect">
              <a:avLst/>
            </a:prstGeom>
            <a:noFill/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16200000">
              <a:off x="1197000" y="3029040"/>
              <a:ext cx="1478880" cy="722520"/>
            </a:xfrm>
            <a:prstGeom prst="rightArrow">
              <a:avLst>
                <a:gd name="adj1" fmla="val 50000"/>
                <a:gd name="adj2" fmla="val 5117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990720" y="1295280"/>
            <a:ext cx="23619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ult dragonfly l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ggs in wa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1320" y="137160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ggs hatch and become lar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943600" y="44956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one year larva sheds hard sk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90720" y="449568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va has become adult dragonf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733920" y="2438280"/>
            <a:ext cx="158436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-108000"/>
            <a:ext cx="9144000" cy="694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rcRect l="0" t="0" r="600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7924680" cy="67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971800" y="1066320"/>
            <a:ext cx="4038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agonf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523880" y="2666880"/>
            <a:ext cx="6629040" cy="762120"/>
            <a:chOff x="1523880" y="2666880"/>
            <a:chExt cx="6629040" cy="762120"/>
          </a:xfrm>
        </p:grpSpPr>
        <p:grpSp>
          <p:nvGrpSpPr>
            <p:cNvPr id="140" name=""/>
            <p:cNvGrpSpPr/>
            <p:nvPr/>
          </p:nvGrpSpPr>
          <p:grpSpPr>
            <a:xfrm>
              <a:off x="1523880" y="2666880"/>
              <a:ext cx="6629040" cy="762120"/>
              <a:chOff x="1523880" y="2666880"/>
              <a:chExt cx="6629040" cy="762120"/>
            </a:xfrm>
          </p:grpSpPr>
          <p:sp>
            <p:nvSpPr>
              <p:cNvPr id="141" name=""/>
              <p:cNvSpPr/>
              <p:nvPr/>
            </p:nvSpPr>
            <p:spPr>
              <a:xfrm>
                <a:off x="1523880" y="2666880"/>
                <a:ext cx="6629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523880" y="2666880"/>
                <a:ext cx="0" cy="762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152920" y="2666880"/>
                <a:ext cx="0" cy="762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>
              <a:off x="4724280" y="2666880"/>
              <a:ext cx="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066680" y="21337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267080" y="21337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or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467480" y="21337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do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3505320"/>
            <a:ext cx="990720" cy="10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ound  e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191120" y="3505320"/>
            <a:ext cx="99036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696080" y="3505320"/>
            <a:ext cx="99072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gestive 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ppend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287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981080" y="1292040"/>
            <a:ext cx="5793120" cy="4501800"/>
            <a:chOff x="1981080" y="1292040"/>
            <a:chExt cx="5793120" cy="4501800"/>
          </a:xfrm>
        </p:grpSpPr>
        <p:grpSp>
          <p:nvGrpSpPr>
            <p:cNvPr id="153" name=""/>
            <p:cNvGrpSpPr/>
            <p:nvPr/>
          </p:nvGrpSpPr>
          <p:grpSpPr>
            <a:xfrm>
              <a:off x="3733920" y="2666880"/>
              <a:ext cx="2286000" cy="1828800"/>
              <a:chOff x="3733920" y="2666880"/>
              <a:chExt cx="2286000" cy="1828800"/>
            </a:xfrm>
          </p:grpSpPr>
          <p:sp>
            <p:nvSpPr>
              <p:cNvPr id="154" name=""/>
              <p:cNvSpPr/>
              <p:nvPr/>
            </p:nvSpPr>
            <p:spPr>
              <a:xfrm>
                <a:off x="3733920" y="2666880"/>
                <a:ext cx="2286000" cy="18288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886200" y="2895480"/>
                <a:ext cx="198108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Dragonflies  are in danger of dying out.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" name=""/>
            <p:cNvSpPr/>
            <p:nvPr/>
          </p:nvSpPr>
          <p:spPr>
            <a:xfrm rot="19309200">
              <a:off x="5867280" y="1752120"/>
              <a:ext cx="1752840" cy="761760"/>
            </a:xfrm>
            <a:prstGeom prst="rightArrow">
              <a:avLst>
                <a:gd name="adj1" fmla="val 50000"/>
                <a:gd name="adj2" fmla="val 57526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019920" y="3047760"/>
              <a:ext cx="1752480" cy="762120"/>
            </a:xfrm>
            <a:prstGeom prst="rightArrow">
              <a:avLst>
                <a:gd name="adj1" fmla="val 50000"/>
                <a:gd name="adj2" fmla="val 5748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1584600">
              <a:off x="5943600" y="4419360"/>
              <a:ext cx="1752480" cy="762120"/>
            </a:xfrm>
            <a:prstGeom prst="rightArrow">
              <a:avLst>
                <a:gd name="adj1" fmla="val 50000"/>
                <a:gd name="adj2" fmla="val 5748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2371200">
              <a:off x="2133720" y="2133000"/>
              <a:ext cx="1752480" cy="762120"/>
            </a:xfrm>
            <a:prstGeom prst="rightArrow">
              <a:avLst>
                <a:gd name="adj1" fmla="val 50000"/>
                <a:gd name="adj2" fmla="val 5748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981080" y="3200040"/>
              <a:ext cx="1752840" cy="762120"/>
            </a:xfrm>
            <a:prstGeom prst="rightArrow">
              <a:avLst>
                <a:gd name="adj1" fmla="val 50000"/>
                <a:gd name="adj2" fmla="val 57499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19309200">
              <a:off x="2133720" y="4571640"/>
              <a:ext cx="1752480" cy="762120"/>
            </a:xfrm>
            <a:prstGeom prst="rightArrow">
              <a:avLst>
                <a:gd name="adj1" fmla="val 50000"/>
                <a:gd name="adj2" fmla="val 5748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762120" y="762120"/>
            <a:ext cx="1676160" cy="16761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2666880"/>
            <a:ext cx="167652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62120" y="4648320"/>
            <a:ext cx="1676160" cy="16761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467480" y="609480"/>
            <a:ext cx="167652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467480" y="2590920"/>
            <a:ext cx="1676520" cy="16761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467480" y="4876920"/>
            <a:ext cx="1676520" cy="16761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38080" y="990720"/>
            <a:ext cx="15242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eople are cutting 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or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09480" y="2743200"/>
            <a:ext cx="1524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uilding homes removes standing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38080" y="4876920"/>
            <a:ext cx="152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abitats are becoming sma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620120" y="8380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ore mosquito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20120" y="2971800"/>
            <a:ext cx="15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ess food for birds and liz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20120" y="52578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ess food for  f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657600" y="304920"/>
            <a:ext cx="16574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28800" y="609480"/>
            <a:ext cx="6095880" cy="58676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733920" y="2590920"/>
            <a:ext cx="2057400" cy="1904760"/>
            <a:chOff x="3733920" y="2590920"/>
            <a:chExt cx="2057400" cy="1904760"/>
          </a:xfrm>
        </p:grpSpPr>
        <p:sp>
          <p:nvSpPr>
            <p:cNvPr id="51" name=""/>
            <p:cNvSpPr/>
            <p:nvPr/>
          </p:nvSpPr>
          <p:spPr>
            <a:xfrm>
              <a:off x="3733920" y="2590920"/>
              <a:ext cx="2057400" cy="19047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886200" y="327672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Dragonf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685800" y="304920"/>
            <a:ext cx="7924680" cy="6400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4572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le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0" y="4572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61722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010280" y="62485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352680" y="106668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ct        pretty         fl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257800" y="19810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e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81280" y="48006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581280" y="55627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ves near wa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05120" y="30481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w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867280" y="33526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ys eg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638680" y="46483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143000" y="838080"/>
            <a:ext cx="2819520" cy="5257800"/>
          </a:xfrm>
          <a:custGeom>
            <a:avLst/>
            <a:gdLst>
              <a:gd name="textAreaLeft" fmla="*/ 1801440 w 2819520"/>
              <a:gd name="textAreaRight" fmla="*/ 2819880 w 2819520"/>
              <a:gd name="textAreaTop" fmla="*/ 136800 h 5257800"/>
              <a:gd name="textAreaBottom" fmla="*/ 5121000 h 5257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447920" y="3505320"/>
            <a:ext cx="281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47912" t="21856" r="43847" b="66464"/>
          <a:stretch/>
        </p:blipFill>
        <p:spPr>
          <a:xfrm>
            <a:off x="4038480" y="533520"/>
            <a:ext cx="990720" cy="9144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rcRect l="28883" t="32569" r="24180" b="49899"/>
          <a:stretch/>
        </p:blipFill>
        <p:spPr>
          <a:xfrm>
            <a:off x="3505320" y="2438280"/>
            <a:ext cx="5638680" cy="13716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rcRect l="49182" t="46212" r="45749" b="17752"/>
          <a:stretch/>
        </p:blipFill>
        <p:spPr>
          <a:xfrm>
            <a:off x="4038480" y="4038480"/>
            <a:ext cx="609840" cy="28195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0" y="2209680"/>
            <a:ext cx="18730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828800" y="609480"/>
            <a:ext cx="6095880" cy="58676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733920" y="2590920"/>
            <a:ext cx="2057400" cy="1904760"/>
            <a:chOff x="3733920" y="2590920"/>
            <a:chExt cx="2057400" cy="1904760"/>
          </a:xfrm>
        </p:grpSpPr>
        <p:sp>
          <p:nvSpPr>
            <p:cNvPr id="183" name=""/>
            <p:cNvSpPr/>
            <p:nvPr/>
          </p:nvSpPr>
          <p:spPr>
            <a:xfrm>
              <a:off x="3733920" y="2590920"/>
              <a:ext cx="2057400" cy="19047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886200" y="327672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Dragonf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685800" y="304920"/>
            <a:ext cx="7924680" cy="6400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38080" y="4572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le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0" y="4572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38080" y="61722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010280" y="62485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352680" y="106668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ct        pretty         fl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57800" y="19810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e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581280" y="48006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581280" y="55627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ves near wa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905120" y="30481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w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33526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ys eg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638680" y="46483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8288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5000 spe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791320" y="25146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carniv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209680" y="380988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Compound e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43600" y="38862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Good eyes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86400" y="5029200"/>
            <a:ext cx="15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On Earth 250 million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362320" y="47242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Adults live short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-76320" y="838080"/>
            <a:ext cx="967752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905120" y="0"/>
            <a:ext cx="537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0" t="0" r="0" b="7338"/>
          <a:stretch/>
        </p:blipFill>
        <p:spPr>
          <a:xfrm>
            <a:off x="533520" y="838080"/>
            <a:ext cx="8305560" cy="57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15563" t="14059" r="12130" b="10019"/>
          <a:stretch/>
        </p:blipFill>
        <p:spPr>
          <a:xfrm>
            <a:off x="228600" y="762120"/>
            <a:ext cx="8686800" cy="59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fig2-10TN.jpg Example of Apposition Compound Eyes 200x19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0"/>
            <a:ext cx="70866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5953" t="4512" r="11509" b="6055"/>
          <a:stretch/>
        </p:blipFill>
        <p:spPr>
          <a:xfrm>
            <a:off x="0" y="-533520"/>
            <a:ext cx="9144000" cy="759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0" t="0" r="3535" b="0"/>
          <a:stretch/>
        </p:blipFill>
        <p:spPr>
          <a:xfrm>
            <a:off x="1295280" y="0"/>
            <a:ext cx="6454800" cy="70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536840" y="0"/>
            <a:ext cx="5770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23:09:35Z</dcterms:created>
  <dc:creator>Mom and Dad</dc:creator>
  <dc:description/>
  <dc:language>en-US</dc:language>
  <cp:lastModifiedBy>Tanis L. Fink</cp:lastModifiedBy>
  <dcterms:modified xsi:type="dcterms:W3CDTF">2005-10-20T20:35:39Z</dcterms:modified>
  <cp:revision>3</cp:revision>
  <dc:subject/>
  <dc:title>Slide 1</dc:title>
</cp:coreProperties>
</file>